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AD3-B124-4CDE-A0A9-F64CE7A9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FCA-B429-4E99-816B-78DAAADB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4AB-E42D-40B2-9E11-FE56359D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AF4-3348-4E3C-BDB6-0D60BDB9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B96-DECC-440E-B653-A552ED64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F72-A2BB-4875-9142-B7D4B2B6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ACA-4753-40EA-A061-2A30B5EE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147-5446-4F72-91DF-E01F0840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08A-839C-43D5-8C0A-1BF63DAB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9A8-5D6A-40E1-B9B4-B4E036E3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F9C-A0BF-405D-A371-9BFE1844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910-AEBA-49DB-90A4-37EA6D2E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89FD-5B56-44F6-978A-2AA6E7B6E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8 Boží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hlas, Boží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ýva ťa,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evne veriť, dúfať smelo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evne veriť, dúfať sm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konať jeho di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dokoná v svoj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Pánom len, s Pánom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j stále, deň čo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slúž vždy odovzda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ch čokoľvek sa 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víhaj viery pocho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čo chcieť, prečo chc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úšti sveta biedne mrie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Pán z výšin slávy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šiel vykúpiť aj t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eky ho môžeš z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cieľ, spásy ci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kázal ti Spasite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on slávne vyšiel z hrob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olal diabla moc a zlob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i raz s ním žiť sme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5:17:10Z</dcterms:modified>
  <cp:revision>21</cp:revision>
  <dc:subject/>
  <dc:title>Je veľký náš Pán, on slávy je Kráľ Nech do všetkých strán  spev vrúcnych znie chvál.</dc:title>
</cp:coreProperties>
</file>